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1ED-5A96-4F05-BAD5-A15C621C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0F3-E8FE-478D-916A-960A73A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1FF-4AF7-4F35-A4EF-B4095F7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EB3-F248-4908-9F22-39D51F44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356-EB6A-4F4C-860F-D083BA3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648-6C0A-4C99-A732-7D2FF74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177-F754-48B6-9DA2-D1A5780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6DF-36B2-417B-8372-1DA6FBC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283-DDC6-469D-A0C8-CB2F543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32D-DE71-4010-A983-96A87B3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DB3-DB05-4DEC-91FA-2333264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36A-FB8D-40B8-A67C-9E5C367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B83-52C5-44A3-8392-B7F2CB827BE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27000"/>
            <a:ext cx="5364000" cy="73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 разлика от това, скъпоценната вест от 1888 год. твърди, че истината за оправдание чрез вяра отива по-далеч от една законово-правна декларация;                в действителност, тя довежда до промяна на сърцето, което прави вярващия грешник послушен на всички Божии заповеди. Тази вест е част от службата на Христос в деня на Умилостивението, която е започнала в 1844 год. и ще продължи, докато изпитанието приклю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967040"/>
            <a:ext cx="543564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 нег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[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благовестието] се открива правдата, която е от Бога, правда, която е чрез вяра към вяра от начало до край, както е писан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раведният чрез вяра ще живе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620640"/>
            <a:ext cx="2519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Рим. 1:1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700280"/>
            <a:ext cx="536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ъразпнах се с Христос и сега аз повече не живея, но Христос живее в мен. Животът, който живея в тялото си, го живея чрез вяра в Божия Син, Който ме обикна и даде Себе Си за мен”.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620640"/>
            <a:ext cx="2519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620640"/>
            <a:ext cx="302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ahoma"/>
              </a:rPr>
              <a:t>Гал. 2: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19280" y="333360"/>
            <a:ext cx="752472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ърво; когато, като църква приемем правилното разбиране за човешкото естество, което Христос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ел, за да ни изкупи през земната Си мисия. Трябва да разберем, че при въплъщението Той е приел нашето грешно човешко естество, подчинено на закона на греха, за да може напълно да спаси човечеството от греха във всичките му форми. Това е вечното Божие благовестие - тройната ангелска в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44280"/>
            <a:ext cx="788508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торо; Божият остатък се нуждае от пълно разбиране на новозаветната дефиниция за вяра. Много често, вярата днес се дефинира като “доверие в Бога”. Определено, вярата включва доверие в Бога, но никъде Новият Завет не използва думата вяра като синоним на доверие; Вярата включва много повече. Според ясното учение на Новия Завет, истинската вяра включва три елемента и те трябва да присъстват във опитността на вярващия, който преживява пълната истина на правдността чрез вя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61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0574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1700280"/>
            <a:ext cx="446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Ще познаете истината и истината ще ви направи свобод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692280"/>
            <a:ext cx="273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Йоан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8:</a:t>
            </a: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3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9900"/>
                </a:solidFill>
                <a:latin typeface="Tahoma"/>
              </a:rPr>
              <a:t>,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221000"/>
            <a:ext cx="396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ко Синът ви освободи, ще бъдете наистина свобод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189000"/>
            <a:ext cx="61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0574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35268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Вяра в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11280" y="189000"/>
            <a:ext cx="61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0574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35268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Вяра в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66236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слушание на истина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22560" y="2060640"/>
            <a:ext cx="5545080" cy="38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Тройната ангелска в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2300400"/>
            <a:ext cx="58338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Който сам понесе в тялото си нашите грехове на дървото, тъй щото като сме умрели към греховете, да живеем към правдата; с чиято рана вие оздравяхте”.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692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Петр.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: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633680"/>
            <a:ext cx="514836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 тъй братя мои, и вие умряхте спрямо закона чрез Христовото тяло, за да се свържете с друг, сиреч с възкресения от мъртвите, за да принасяте плод на Бог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620640"/>
            <a:ext cx="2519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620640"/>
            <a:ext cx="302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ahoma"/>
              </a:rPr>
              <a:t>Римл. 7:4</a:t>
            </a:r>
            <a:r>
              <a:rPr b="0" lang="bg-BG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54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2349360"/>
            <a:ext cx="381636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 така, ние заключаваме, че човек се оправдава чрез вяра, без делата на закона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620640"/>
            <a:ext cx="273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Римл. 3:28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363760"/>
            <a:ext cx="5148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За мен да живея е Христос, да умра придобивка.”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620640"/>
            <a:ext cx="2519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620640"/>
            <a:ext cx="251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ahoma"/>
              </a:rPr>
              <a:t>Фил. 1: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01760"/>
            <a:ext cx="3816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неже Христос изпълнява целта на закона, да се оправдае всеки който вярва.”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9900"/>
                </a:solidFill>
                <a:latin typeface="Tahoma"/>
              </a:rPr>
              <a:t>Рим.10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700280"/>
            <a:ext cx="4321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 това ще познаят всички, че сте мои ученици, ако имате любов помежду си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92280"/>
            <a:ext cx="2449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Йоан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13:35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0744200" cy="6939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638680"/>
            <a:ext cx="86868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3300"/>
                </a:solidFill>
                <a:latin typeface="Tahoma"/>
              </a:rPr>
              <a:t>А ние всички, с открито лице, като в огледало, гледайки Господната слава, се преобразяваме в същия образ, от слава в слава, както от Духа Господен.</a:t>
            </a:r>
            <a:r>
              <a:rPr b="0" lang="bg-BG" sz="2400" spc="-1" strike="noStrike">
                <a:solidFill>
                  <a:srgbClr val="ff0066"/>
                </a:solidFill>
                <a:latin typeface="Tahoma"/>
              </a:rPr>
              <a:t> 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2 Кор. 3: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44280"/>
            <a:ext cx="4356000" cy="79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“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колцина ми писаха, за да питат дали оправданието чрез вяра е тройната ангелска вест и аз им отговори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’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наистина е тройната ангелска вес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’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Ревю енд Хералд,</a:t>
            </a: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 1 април 1890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45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cc"/>
                </a:solidFill>
                <a:latin typeface="Tahoma"/>
              </a:rPr>
              <a:t>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201760"/>
            <a:ext cx="3816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неже Христос изпълнява целта на закона, да се оправдае всеки който вярва.”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9900"/>
                </a:solidFill>
                <a:latin typeface="Tahoma"/>
              </a:rPr>
              <a:t>Рим.10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703520"/>
            <a:ext cx="504180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Господ е Духът; и гдето е Господният Дух, там е свобода, а ние всички, с открито лице, като в огледало, гледайки Господната слава, се преобразяваме в същия образ, от слава във слава, както от Духа Господен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620640"/>
            <a:ext cx="295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2 Кор. 3:17,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3276720"/>
            <a:ext cx="8893080" cy="490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нашето гражданство е на небесата, отгдето и очакваме Спасител, Господа Исуса Христа, Който ще преобрази нашето унищожено тяло, за да стане съобразно с Неговото славно тяло, по упражнението на силата Си да покори и всичко на Себе Си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bg-BG" sz="2800" spc="-1" strike="noStrike">
                <a:solidFill>
                  <a:srgbClr val="ff9900"/>
                </a:solidFill>
                <a:latin typeface="Tahoma"/>
              </a:rPr>
              <a:t>Фил.3:20,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85800"/>
            <a:ext cx="701028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овешкото естество на Божия син е всичко за нас. Това е златната верига, която съединява нашите души с Христос и посредством Христос - с Бога. Това трябва да бъде предмет на нашето изследване… Изследването въплъщението на Христос е плодородно поле, което възнаграждава търсача на дълбоко скритата ист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13600"/>
            <a:ext cx="944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00"/>
                </a:solidFill>
                <a:latin typeface="Tahoma"/>
              </a:rPr>
              <a:t>Избрани вести - том І ; стр. 2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30240"/>
            <a:ext cx="908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99"/>
                </a:solidFill>
                <a:latin typeface="Tahoma"/>
              </a:rPr>
              <a:t>Духът на пророчеств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004760"/>
            <a:ext cx="81723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. Благовестието – праведност чрез вяра – е сърцевината на тройната ангелска вест от Откровение 14 глава, както потвърждава Елън Уайт (“Ревю енд Хералд,” 01 04 1890 г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-27000"/>
            <a:ext cx="81010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2. Първият ангел трябва да проповядва вечното благовестие по целия свят. Вторият ангел съобщава, че Вавилон е паднал, защото е отстъпил от вечното благовестие. Третият ангел прибавя най-тържественото предупреждение, че всеки, който съзнателно и окончателно отхвърля Христовата правда, ще понесе присъдата на Божия съд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4280"/>
            <a:ext cx="817236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3.  Вестта от 1888 г. за правдност чрез вяра се простира отвъд популярната идея за оправдание чрез вяра,  проповядвна по това време и днес. Според популярната идея, оправдание чрез вяра значи: Бог обявява грешника, който вярва в Христос за праведен.  Вестта от 1888 г. учи, че правдността чрез вяра минава отвъд законовата декларация, тя  донася промяна в сърцето, която прави вярващия грешник послушен на всички Божии запо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004760"/>
            <a:ext cx="7812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4.  Според Писанията, вярата, която оправдава е вярата, която освещава и пак тя един ден ще прослави вярващия, чиято вяра издържи до край. В такъв случай, правдността чрез вяра включва оправдание, освещение и прославяне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814320"/>
            <a:ext cx="7812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5. Истинската вяра е нещо повече от доверие в Бога. Тя включ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а. познание на истинат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б. вяра в истинат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в. подчинение на истин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730080"/>
            <a:ext cx="417672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 това евангелие на царството ще се проповядва по целия свят и тогава ще дойде свършека”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-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bg-BG" sz="4000" spc="-1" strike="noStrike">
                <a:solidFill>
                  <a:srgbClr val="ff9900"/>
                </a:solidFill>
                <a:latin typeface="Tahoma"/>
              </a:rPr>
              <a:t>Мат. 24:</a:t>
            </a:r>
            <a:r>
              <a:rPr b="0" i="1" lang="en-US" sz="4000" spc="-1" strike="noStrike">
                <a:solidFill>
                  <a:srgbClr val="ff9900"/>
                </a:solidFill>
                <a:latin typeface="Tahoma"/>
              </a:rPr>
              <a:t>14.</a:t>
            </a:r>
            <a:r>
              <a:rPr b="0" lang="bg-BG" sz="4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534960"/>
            <a:ext cx="36352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Не е ли велик този Вавилон, който аз съградих с мощната си сила, за царското ж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лище и за славата на величието си?”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(Дан.4:30)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2:16:04Z</dcterms:created>
  <dc:creator>zxy</dc:creator>
  <dc:description/>
  <dc:language>en-US</dc:language>
  <cp:lastModifiedBy>Peter</cp:lastModifiedBy>
  <dcterms:modified xsi:type="dcterms:W3CDTF">2003-10-30T07:01:35Z</dcterms:modified>
  <cp:revision>10</cp:revision>
  <dc:subject/>
  <dc:title>Slide 1</dc:title>
</cp:coreProperties>
</file>